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F55-68A6-4F28-AE40-2F1081A8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AFE-081B-42ED-AF18-1AB8BC3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A32-C383-402E-90CE-53EF8F51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18F-37DF-4764-A251-5C3C09E4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C4A-B871-4C5D-B44B-B800455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E9F-706B-437E-B83B-1EB70EB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7DE-C2BD-4ED1-BDC6-E9B22A8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053-C1D8-4F76-AD04-EE69406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B5F-B2FC-4437-B24E-F33A3A68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A9D-026F-492F-9FCB-8F077DC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2DD-8140-4439-9204-02754F5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C96-578B-41DC-803A-0729589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A32-6FF9-439D-AE03-4DAC7ECA3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the Jumanos disappe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:\Program Files\Microsoft Office\Clipart\standard\stddir2\BD07752_.WMF"/>
          <p:cNvPicPr/>
          <p:nvPr/>
        </p:nvPicPr>
        <p:blipFill>
          <a:blip r:embed="rId1"/>
          <a:stretch/>
        </p:blipFill>
        <p:spPr>
          <a:xfrm>
            <a:off x="4648320" y="2200320"/>
            <a:ext cx="38098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McKinney ISD</cp:lastModifiedBy>
  <dcterms:modified xsi:type="dcterms:W3CDTF">2013-10-01T17:25:46Z</dcterms:modified>
  <cp:revision>4</cp:revision>
  <dc:subject/>
  <dc:title>Pueblo Native Americans</dc:title>
</cp:coreProperties>
</file>